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CD87-43A8-48C9-9074-703EA7304A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1F3D-06D0-43DE-95C4-CBE5154F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D66AA-47A6-464C-8E69-09B1E70A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467BF-930F-47AD-8AB7-1AF37565DB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9073-464B-4974-A091-924856FB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D9F-A471-499D-AF76-F8E67F69B5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016F-6AD6-4532-A824-46F306A0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8176-ED9A-4902-A148-D0F6E14B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C28E-1BE1-4849-A14C-A95F2D6F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210E-8A6A-44E9-BDD4-2D980071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2F91-F440-464C-9BE4-392F476B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D0F7-FEDD-4724-B378-902039B1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228-1997-412B-86E2-716D7081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1763-8B3D-4935-89EB-63507DE9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912-3ABC-4D26-9904-F07ED653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2AAA-2FA8-4899-8CC8-B5D1B181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91F-DDB7-42D2-A1D6-4C055491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546-0B8F-4F48-8C73-53A6C7A3E0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9054D9-DB7A-4BA7-AF72-C26500FC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34FFF8-FEB2-47E7-929E-826BEDCD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A9F5EB-23AC-408B-8FCD-FBB4343D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E850-4CA3-478D-AD3E-767ECE8E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955A13-A74A-45CA-8476-F58C5446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CBCDDE-2305-477B-9C14-AEE9D8A5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9DC670-50D6-4DCD-8996-A5127F32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97D00D-E719-444D-9893-6388A19E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584644-6953-47AB-89DA-D6A1A19D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05DC1D-C323-4684-9661-17C4D483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33D7CA-A96D-45B0-9527-AC437617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FA6B93-13A5-40E8-BAF7-485CD369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6A4794-66D5-4555-B8BD-39FC6040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13DF2B-D681-4B4A-9719-49767980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7F88-8186-41CC-B274-41B8D5EE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DE531F-D9D4-4A78-9184-1D75D3D9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8A6195-E122-4B4C-B3B9-B456DF69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E3422F-3FEC-4836-A30B-BD188718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3E29F0-D4E9-4F60-BFD1-6743A244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FF4283-3C76-4E7F-9980-2C2335D6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6A731A-3C0D-4977-AB47-CED1E993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379273-EDC9-4A6B-B7C5-2C62C374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49D69B-CE04-4C25-A8F2-ABF28CEE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289A0A-B829-4EE7-A22A-65C42FA6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9F96C3-0E85-463E-B96D-0DD76268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EF99-0714-4491-BC1D-7BF48BF9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3CA832-AC08-4BEC-8C9B-3C15B3F7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C65E7B-3426-48DF-80A2-A69C0682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B2298E-4010-420F-A24A-7975B8F7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37765E-3A85-4203-BBA5-24D73B2F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B4989D-5A7A-4E48-A98D-D0CB97D5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44E955-0846-410E-935D-42734A52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DF1BF5-A98D-4423-8977-599D2DFC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16D6E7-D258-4DA1-BCE4-3D069B5F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60F87F-B8B6-4CF8-81FE-1A9E4DA7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CD75F3-F266-4FD3-82F1-C03984AE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ABC0-3FAC-4D40-9891-06347BE8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561C7A-8F8E-4B70-B85B-711865F9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492B30-BF11-4106-A94E-32227169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EE2D56-C940-4891-9780-766D1097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C36309-A3C9-4A6B-B9F7-389980F2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0790B0-CFA6-4C32-9032-3798D725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B5F301-0DCE-4BC9-81B3-436201B2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DD8D32-D306-4E26-B198-A108E432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7E0AA2-2C0C-496A-90B6-91D2681E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47D2F5-4B06-41B0-B129-73BE65E3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94364F-520F-4F7C-8208-C9375818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86D9-4EBD-4386-BBD3-D280B9C0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D4B233-866A-4C4E-B807-8521C7C6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E2F698-55D1-439D-87EF-7A8A4911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FD4DFA-C067-4646-B58B-04647FB6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7AF9B6-048C-4562-BAD1-8FEFEF0D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19E8F5-11A4-4674-9A77-87544AC1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E257EA-3226-48B6-BFC9-15BE925A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DFCB56-C58D-48E2-8B3C-8B7E070D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58DB79-E3A1-46B5-A2FE-DB81F1EF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5FE9CE-FAE4-4C84-8AAF-D36CC35E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17A6A0-E9B2-435C-9FE1-2BFD2D04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DA06-7692-469C-A674-4292446D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7E3C64-7D79-4A96-9017-4B97D395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A2C5E3-B1EC-4ACB-91F2-0EAB04DC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9A668D-EB9C-44D0-9C95-3542872A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AC045A-E153-4C12-A037-467600EA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CEC495-E06A-4653-8A27-C2C981FD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8F4F07-D5D4-4E36-AA0B-B7139AA3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9870C0-BB32-4BEA-987F-A68CA342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F48D-240A-445A-A546-1E684F939D6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A6B5-EB6E-46E1-BFAA-5DD6521808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DB3E-F3D1-4841-8234-CDA1C4F62AC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7096-830C-4295-96FF-09DBF9CC54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DA9C-1383-4182-AA45-1DE8AE586C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1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87B5-268B-42AF-BED7-891A6EA40CD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1816-D8B5-443A-AC4A-78ECD08FC08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DED8-1506-4085-8236-3DA47DCF5D1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2F9D-FC08-4A5A-B173-F94AE209D6C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同部位、程度的脊髓损伤产生不同类型的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觉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具体表现为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完全性损伤：感觉障碍呈不完全性丧失，其范围和部位差异明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完全性损伤：损伤平面以上可有痛觉过敏；损伤平面以下感觉完全丧失，包括肛门周围的粘膜感觉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AF23-B733-4B0B-8B32-9BF9BB590D4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921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障碍还可以出现在以下这些症状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250920" y="4797360"/>
            <a:ext cx="8497800" cy="1143000"/>
            <a:chOff x="250920" y="4797360"/>
            <a:chExt cx="8497800" cy="1143000"/>
          </a:xfrm>
        </p:grpSpPr>
        <p:sp>
          <p:nvSpPr>
            <p:cNvPr id="421" name="AutoShape 3"/>
            <p:cNvSpPr/>
            <p:nvPr/>
          </p:nvSpPr>
          <p:spPr>
            <a:xfrm>
              <a:off x="250920" y="4797360"/>
              <a:ext cx="198108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疼       痛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AutoShape 3"/>
            <p:cNvSpPr/>
            <p:nvPr/>
          </p:nvSpPr>
          <p:spPr>
            <a:xfrm>
              <a:off x="2484360" y="4797360"/>
              <a:ext cx="187164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异常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AutoShape 3"/>
            <p:cNvSpPr/>
            <p:nvPr/>
          </p:nvSpPr>
          <p:spPr>
            <a:xfrm>
              <a:off x="457200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丧失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3"/>
            <p:cNvSpPr/>
            <p:nvPr/>
          </p:nvSpPr>
          <p:spPr>
            <a:xfrm>
              <a:off x="673272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分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5" name="AutoShape 11"/>
          <p:cNvSpPr/>
          <p:nvPr/>
        </p:nvSpPr>
        <p:spPr>
          <a:xfrm>
            <a:off x="468360" y="2565360"/>
            <a:ext cx="7848720" cy="1008000"/>
          </a:xfrm>
          <a:prstGeom prst="flowChartTerminator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Freeform 14"/>
          <p:cNvSpPr/>
          <p:nvPr/>
        </p:nvSpPr>
        <p:spPr>
          <a:xfrm flipH="1" rot="6229800">
            <a:off x="1223640" y="3607920"/>
            <a:ext cx="1006200" cy="1079640"/>
          </a:xfrm>
          <a:custGeom>
            <a:avLst/>
            <a:gdLst>
              <a:gd name="textAreaLeft" fmla="*/ -360 w 1006200"/>
              <a:gd name="textAreaRight" fmla="*/ 1006200 w 1006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AutoShape 16"/>
          <p:cNvSpPr/>
          <p:nvPr/>
        </p:nvSpPr>
        <p:spPr>
          <a:xfrm>
            <a:off x="320364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AutoShape 16"/>
          <p:cNvSpPr/>
          <p:nvPr/>
        </p:nvSpPr>
        <p:spPr>
          <a:xfrm>
            <a:off x="529272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Freeform 15"/>
          <p:cNvSpPr/>
          <p:nvPr/>
        </p:nvSpPr>
        <p:spPr>
          <a:xfrm flipH="1" flipV="1" rot="3382800">
            <a:off x="7002360" y="3732840"/>
            <a:ext cx="1336680" cy="871200"/>
          </a:xfrm>
          <a:custGeom>
            <a:avLst/>
            <a:gdLst>
              <a:gd name="textAreaLeft" fmla="*/ -360 w 1336680"/>
              <a:gd name="textAreaRight" fmla="*/ 1336680 w 1336680"/>
              <a:gd name="textAreaTop" fmla="*/ 360 h 871200"/>
              <a:gd name="textAreaBottom" fmla="*/ 871920 h 8712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5932-F97F-4B9F-A9E8-BA212893310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排尿、排便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功能障碍  主要表现为膀胱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功能障碍  主要表现为肛门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1"/>
          <p:cNvSpPr/>
          <p:nvPr/>
        </p:nvSpPr>
        <p:spPr>
          <a:xfrm>
            <a:off x="395280" y="1341360"/>
            <a:ext cx="8172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知识链接</a:t>
            </a:r>
            <a:r>
              <a:rPr b="0" i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便携式膀胱</a:t>
            </a:r>
            <a:r>
              <a:rPr b="1" lang="en-US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超在脊髓损伤患者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脊髓损伤的患者往往伴有尿潴留，所以对患者进行残余尿量的测定是非常重要的环节，以往主要采取导尿术、腹部叩击法、放射性扫描、辅助检查室超声波检查法等方法检查，对患者具有一定的损伤性和不方便性，便携式膀胱</a:t>
            </a: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超可以克服这些检查的缺点，具有无痛性、安全、简便、舒适，目前在临床上应用广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FB17-40FB-49D6-829E-DACC800965B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74872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自主性反射障碍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自主性反射障碍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utonomic dysreflex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一种急性的交感兴奋综合征，常发生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T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以上的脊髓损伤患者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1908000" y="4346640"/>
            <a:ext cx="7020000" cy="1584360"/>
          </a:xfrm>
          <a:prstGeom prst="cloudCallout">
            <a:avLst>
              <a:gd name="adj1" fmla="val -32925"/>
              <a:gd name="adj2" fmla="val -79050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771640" y="44370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其特征为严重的高血压、搏动性头痛、视物不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心动过缓、损伤平面以上出汗、潮红和鼻塞等症状。</a:t>
            </a:r>
            <a:r>
              <a:rPr b="1" lang="zh-CN" sz="1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596E-06D5-45C9-93BA-C9F7EE983A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脊髓休克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shock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指脊髓受到外力损伤后，脊髓与大脑高级中枢的联系中断，损伤平面以下所有神经反射消失，肢体呈完全性迟缓性瘫痪，出现尿潴留、便失禁等症状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656A-980F-42D3-9E38-C14D257E7A7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893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六）其他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交感神经损伤，患者可出现排汗功能、血管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和体温调节障碍。除此之外，患者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还可出现心动过缓、直立性低血压、皮肤脱屑、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水肿、指甲松脆和角化过度等症状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156F-F3EA-473F-A11F-4DE0C08708A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23640" y="1857240"/>
            <a:ext cx="85690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的神经功能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损伤平面的评定：损伤平面是指保留身体双侧正常运动和感觉功能的最低脊髓节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755640" y="4221000"/>
            <a:ext cx="7632720" cy="10688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运动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motor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感觉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sensory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AB71-7FAA-4941-A5BE-6269AC5534D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损伤严重程度评定  常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损伤分级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可表现为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完全性损伤时，即无感觉也无运动功能，可有部分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能保留区（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one of partial preservation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PP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，但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不完全性损伤时保留部分感觉和（或）运动功能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保留区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功能保留区只适用于完全性脊髓损伤患者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270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23B2-74D3-443A-98B8-1748ACC08B3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的评定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阳性表现：损伤平面以下所有神经反射消失，肢体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呈完全性迟缓性瘫痪、尿潴留、便失禁。阳性体征：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射消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结束表现：损伤水平以下出现任何感觉、运动或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肉张力升高和痉挛。阳性体征：球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射再出现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4B71-BA8A-46D4-9EB9-8C2C0C84124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的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评分：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ISCO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运动评分法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痉挛评定：目前多采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hworth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量表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的评定  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感觉指数评分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ensory index score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I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选择身体两侧共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8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皮区关键点，在每个关键点上检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种感觉，即针刺觉和轻触觉，按三个等级分别评定打分：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0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缺失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异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正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NT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无法检查。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日常生活活动能力评估  截瘫患者可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MB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量表进行评定；四肢瘫患者用四肢瘫功能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uadriplegic index of function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IF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、社会状况评估  脊髓损伤患者因发病急、病情重，会产生严重的心理负担及社会压力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平面和功能预后关系的评定  对完全性脊髓损伤的患者，根据损伤平面预测其功能恢复情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517680" y="2276280"/>
            <a:ext cx="7534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脊髓损伤患者的临床表现，常用的康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复护理诊断如下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活动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失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清理呼吸道无效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87640" y="3499920"/>
            <a:ext cx="392436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焦虑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受伤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感染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皮肤完整性受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468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4716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B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11280" y="1992240"/>
            <a:ext cx="8137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该患者经保守治疗病情稳定，颅骨牵引已经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周。康复护理评估：腕背伸级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肱三头肌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天排便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次，且粪便干结，尿失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该患者应采取哪些康复护理措施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820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患者现存的康复护理问题进行排序后，制定近期目标和远期目标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近期目标：①稳定患者情绪，减轻焦虑程度，帮助患者面对疾病，配合治疗和护理。②康复护理措施的实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远期目标：利用多种手段，使患者受限或丧失的功能和能力得到最大限度的恢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正确体位的摆放：正确的体位可以促进患者肢体功能恢复，有助于预防关节挛缩和压疮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仰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侧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被动活动：为防止关节挛缩和畸形，从脊髓损伤急性休克期开始，直至患者能够主动进行全关节活动范围运动均应进行被动活动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主动活动：针对患者肢体残存功能进行训练，扩大代偿功能，为日后的其他训练打好基础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体位变换：脊髓损伤患者应根据病情变换体位，一般每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小时变换一次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呼吸及排痰训练：指导患者进行呼吸训练和辅助咳嗽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43280" y="907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8072280" cy="29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概念、分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患者存在的主要功能障碍及护理评估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脊髓损伤的病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对完全性脊髓损伤患者设计康复护理方案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FA6A-54DB-4F74-A7B2-CE845445F46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8532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、排便的处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914400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增强肌力训练：脊髓损伤患者为了应用轮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椅、拐杖或自助器，在卧床或坐位时，要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肌力的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按照患者的肌力水平选择适宜的运动训练方式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主要训练方法为被动活动、肌肉电刺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激及生物反馈治疗；②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较大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范围的辅助、主动及器械性运动，根据患者肌力情况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调节辅助量；③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抗阻力运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动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5889240" y="4149720"/>
            <a:ext cx="159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翻身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肘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手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床上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" name="Group 15"/>
          <p:cNvGrpSpPr/>
          <p:nvPr/>
        </p:nvGrpSpPr>
        <p:grpSpPr>
          <a:xfrm>
            <a:off x="5292720" y="3789360"/>
            <a:ext cx="3022200" cy="3604680"/>
            <a:chOff x="5292720" y="3789360"/>
            <a:chExt cx="3022200" cy="3604680"/>
          </a:xfrm>
        </p:grpSpPr>
        <p:sp>
          <p:nvSpPr>
            <p:cNvPr id="489" name="AutoShape 16"/>
            <p:cNvSpPr/>
            <p:nvPr/>
          </p:nvSpPr>
          <p:spPr>
            <a:xfrm>
              <a:off x="5292720" y="3939840"/>
              <a:ext cx="3022200" cy="26488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AutoShape 17"/>
            <p:cNvSpPr/>
            <p:nvPr/>
          </p:nvSpPr>
          <p:spPr>
            <a:xfrm>
              <a:off x="5577120" y="3819960"/>
              <a:ext cx="2453760" cy="24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AutoShape 18"/>
            <p:cNvSpPr/>
            <p:nvPr/>
          </p:nvSpPr>
          <p:spPr>
            <a:xfrm flipH="1">
              <a:off x="7794360" y="3879720"/>
              <a:ext cx="943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AutoShape 19"/>
            <p:cNvSpPr/>
            <p:nvPr/>
          </p:nvSpPr>
          <p:spPr>
            <a:xfrm flipH="1">
              <a:off x="5709960" y="3879720"/>
              <a:ext cx="961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3" name="Text Box 20"/>
            <p:cNvSpPr/>
            <p:nvPr/>
          </p:nvSpPr>
          <p:spPr>
            <a:xfrm>
              <a:off x="6695280" y="3789360"/>
              <a:ext cx="175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" name="Text Box 21"/>
            <p:cNvSpPr/>
            <p:nvPr/>
          </p:nvSpPr>
          <p:spPr>
            <a:xfrm>
              <a:off x="5393160" y="4159800"/>
              <a:ext cx="28090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5" name="Freeform 12"/>
          <p:cNvSpPr/>
          <p:nvPr/>
        </p:nvSpPr>
        <p:spPr>
          <a:xfrm>
            <a:off x="3780000" y="3213000"/>
            <a:ext cx="259056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42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坐位训练：脊髓损伤患者多采用长坐位和端坐位进行平衡维持训练，包括静态平衡训练和动态平衡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转移训练：根据患者脊髓损伤平面、残存肌力及关节活动度等情况选择不同的转移方法，包括辅助转移和独立转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将训练内容与日常生活活动相结合，如进食训练在三餐时进行。②训练前做好各种准备，如辅助患者排空二便，妥善固定各种导管，以防训练中脱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③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训练过程中鼓励患者尽量自己完成所有步骤，必要时才给予协助。④让家庭成员共同参与训练过程，指导其用最恰当的方式帮助患者生活自理。⑤训练前、后观察患者身体状况和精神状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站立训练：在坐位训练完成较好后可以开始站立训练，首先进行体位适应性训练，以防止直立性低血压，站立训练过程中应注意协助患者保持脊柱的稳定性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步行训练：脊髓损伤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个月，已完成上述训练者配带矫形器进行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468360" y="73836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矫形器、辅助器具和环境改造的护理：具体包括：①指导患者及家属如何正确佩戴和使用矫形器、辅助器具和轮椅。②告之注意事项。③与医生、康复治疗师、矫形器技师、患者、家属一同对患者所处的环境进行无障碍设计和改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748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心理护理：建立良好护患关系、疏导负性情绪、帮助患者正视疾病与残疾、指导患者家属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468360" y="7048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DD0C-9026-4563-85C3-CEC16CBA66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8209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cord injury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C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由外伤、疾病和先天发育不良等因素引起的脊髓结构和功能的损害，造成损伤水平以下运动、感觉、自主神经功能的异常以及相应的并发症，导致不同程度的残疾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并发症的护理  多数脊髓损伤患者死于并发症，只有及时有效的防治，才能提高患者的生存质量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常见的并发症包括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102720" y="5084640"/>
            <a:ext cx="601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压疮、泌尿系感染、疼痛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下肢深静脉血栓、异位骨化等</a:t>
            </a:r>
            <a:r>
              <a:rPr b="0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3419640" y="4941720"/>
            <a:ext cx="5364000" cy="1656000"/>
          </a:xfrm>
          <a:prstGeom prst="cloudCallout">
            <a:avLst>
              <a:gd name="adj1" fmla="val -8625"/>
              <a:gd name="adj2" fmla="val -112777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424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自我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合理膳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心理调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持之以恒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回归社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5253480" y="2349360"/>
            <a:ext cx="292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学会自我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养成良好的卫生习惯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药物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加强二便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" name="Group 15"/>
          <p:cNvGrpSpPr/>
          <p:nvPr/>
        </p:nvGrpSpPr>
        <p:grpSpPr>
          <a:xfrm>
            <a:off x="4500720" y="1989000"/>
            <a:ext cx="4392000" cy="3618720"/>
            <a:chOff x="4500720" y="1989000"/>
            <a:chExt cx="4392000" cy="3618720"/>
          </a:xfrm>
        </p:grpSpPr>
        <p:sp>
          <p:nvSpPr>
            <p:cNvPr id="519" name="AutoShape 16"/>
            <p:cNvSpPr/>
            <p:nvPr/>
          </p:nvSpPr>
          <p:spPr>
            <a:xfrm>
              <a:off x="4500720" y="2145960"/>
              <a:ext cx="4392000" cy="27586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AutoShape 17"/>
            <p:cNvSpPr/>
            <p:nvPr/>
          </p:nvSpPr>
          <p:spPr>
            <a:xfrm>
              <a:off x="4914000" y="2021040"/>
              <a:ext cx="3565800" cy="250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AutoShape 18"/>
            <p:cNvSpPr/>
            <p:nvPr/>
          </p:nvSpPr>
          <p:spPr>
            <a:xfrm flipH="1">
              <a:off x="8136360" y="2083320"/>
              <a:ext cx="13680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AutoShape 19"/>
            <p:cNvSpPr/>
            <p:nvPr/>
          </p:nvSpPr>
          <p:spPr>
            <a:xfrm flipH="1">
              <a:off x="5108040" y="2083320"/>
              <a:ext cx="13968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3" name="Text Box 20"/>
            <p:cNvSpPr/>
            <p:nvPr/>
          </p:nvSpPr>
          <p:spPr>
            <a:xfrm>
              <a:off x="6575400" y="1989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4" name="Text Box 21"/>
            <p:cNvSpPr/>
            <p:nvPr/>
          </p:nvSpPr>
          <p:spPr>
            <a:xfrm>
              <a:off x="4646520" y="2373480"/>
              <a:ext cx="408204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25" name="Freeform 12"/>
          <p:cNvSpPr/>
          <p:nvPr/>
        </p:nvSpPr>
        <p:spPr>
          <a:xfrm>
            <a:off x="3348000" y="1268280"/>
            <a:ext cx="259092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病因包括：①外伤性脊髓损伤致病因素：高空坠落、交通事故和体育运动等导致脊髓受压甚至完全断裂、刀伤、枪伤等脊髓外伤。②非外伤性脊髓损伤致病因素：炎症、肿瘤、血管病变、退行性病变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主要功能包括障碍运动功能障碍、感觉功能障碍、排尿、排便功能障碍、自主性反射障碍、脊髓休克、其他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2"/>
          <p:cNvSpPr/>
          <p:nvPr/>
        </p:nvSpPr>
        <p:spPr>
          <a:xfrm>
            <a:off x="755640" y="1996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脊髓损伤急性期康复护理措施包括：正确体位的摆放、被动活动、主动活动、体位变换、呼吸及排痰训练、排尿、排便的处理。恢复期康复护理措施包括：运动功能训练、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ADL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能力训练、矫形器、辅助器具和环境改造的护理、心理护理。另外，还需进行并发症的预防和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指导患者进行自我管理、调整饮食、合理膳食、调节心理、坚持康复训练、回归社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DD0C-D026-4B7B-A0D6-F990748BCDF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致病因素分为外伤性脊髓损伤和非外伤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损伤程度可分为完全性脊髓损伤和不完全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病因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高空坠落、交通事故和体育运动等导致脊髓受压甚至完全断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刀伤、枪伤等脊髓外伤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非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572000" y="4869000"/>
            <a:ext cx="41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炎症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肿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血管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退行性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Freeform 12"/>
          <p:cNvSpPr/>
          <p:nvPr/>
        </p:nvSpPr>
        <p:spPr>
          <a:xfrm rot="1061400">
            <a:off x="5940000" y="4005000"/>
            <a:ext cx="1800360" cy="8697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15"/>
          <p:cNvGrpSpPr/>
          <p:nvPr/>
        </p:nvGrpSpPr>
        <p:grpSpPr>
          <a:xfrm>
            <a:off x="4643280" y="4724280"/>
            <a:ext cx="3814560" cy="3733920"/>
            <a:chOff x="4643280" y="4724280"/>
            <a:chExt cx="3814560" cy="3733920"/>
          </a:xfrm>
        </p:grpSpPr>
        <p:sp>
          <p:nvSpPr>
            <p:cNvPr id="400" name="AutoShape 16"/>
            <p:cNvSpPr/>
            <p:nvPr/>
          </p:nvSpPr>
          <p:spPr>
            <a:xfrm>
              <a:off x="4643280" y="4815720"/>
              <a:ext cx="3814560" cy="160776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17"/>
            <p:cNvSpPr/>
            <p:nvPr/>
          </p:nvSpPr>
          <p:spPr>
            <a:xfrm>
              <a:off x="5002200" y="4743720"/>
              <a:ext cx="3097080" cy="14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18"/>
            <p:cNvSpPr/>
            <p:nvPr/>
          </p:nvSpPr>
          <p:spPr>
            <a:xfrm flipH="1">
              <a:off x="7800840" y="4779000"/>
              <a:ext cx="11880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flipH="1">
              <a:off x="5169960" y="4779000"/>
              <a:ext cx="12132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20"/>
            <p:cNvSpPr/>
            <p:nvPr/>
          </p:nvSpPr>
          <p:spPr>
            <a:xfrm>
              <a:off x="6432120" y="4724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1"/>
            <p:cNvSpPr/>
            <p:nvPr/>
          </p:nvSpPr>
          <p:spPr>
            <a:xfrm>
              <a:off x="4801680" y="5223960"/>
              <a:ext cx="35452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3C65-EEC9-4B63-A077-86F6BC1FC9C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68000" y="2249640"/>
            <a:ext cx="84294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流行病学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各国研究资料表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0%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患者年龄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以下的青年人，男女比例为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: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且发病率呈逐年上升的趋势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A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赵某，男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，建筑工人，因工作不慎从高处坠落，入院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小时，临床诊断：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颈椎骨折脱位，脊髓损伤。患者入院后意识清晰，语言流利，生命体征平稳，无其他脏器损伤。查体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:C6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平面以下感觉缺失、四肢瘫、肌张力低、腱反射消失、排尿、排便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该患者存在哪些功能障碍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对该患者应进行哪些康复护理评估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604B-3373-4F28-8D7B-9F77A40D227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运动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根据损伤部位不同，可表现为不同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张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反射功能的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27:03Z</dcterms:modified>
  <cp:revision>11</cp:revision>
  <dc:subject/>
  <dc:title>第一章 儿科疾病的护理</dc:title>
</cp:coreProperties>
</file>